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9CD8-4B86-49BF-92B8-76183C52E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78FF-BEBB-459F-8336-C602AEBE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7742-F117-4197-8102-265C386F3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1F4E-A8D8-4E6A-BD03-E1862CEC2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B64A-747D-415B-9E1B-FEA1FBB8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C201-1A16-461A-8CB3-9CD089CF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5762-B8FA-42FF-BFE7-FDA41CA8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016E-2665-4CA3-8C15-D16734D7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49DC-2443-4619-A217-8F3EFD91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5847-0AD7-4621-B872-F15B1875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B703-1010-4B9D-8860-5FF29278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381C-F260-494B-8B85-B6DC32A8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355B-7F75-4AD6-9B7A-331873759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ton’s Laws of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j0286744"/>
          <p:cNvPicPr/>
          <p:nvPr/>
        </p:nvPicPr>
        <p:blipFill>
          <a:blip r:embed="rId1"/>
          <a:stretch/>
        </p:blipFill>
        <p:spPr>
          <a:xfrm>
            <a:off x="3124080" y="3505320"/>
            <a:ext cx="2286000" cy="21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ton’s 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La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the law of inerti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Newton’s 1st La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4724280" y="1676520"/>
            <a:ext cx="40388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bject at rest remains at rest and an object in motion will stay in motion unless acted upon by another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 ball will stay at rest unless someone kicks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0" y="0"/>
            <a:ext cx="8465040" cy="68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ertia:  objects want to keep doing wha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they were do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they were moving, they keep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mov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they were hanging out, the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keep hanging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takes a force to get them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Inertia1lar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380880" y="60948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s are in 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Inertia2lar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457200" y="609480"/>
            <a:ext cx="4800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agon stops, the blocks want to stay in mo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ton’s 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Newton’s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you change for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572000" y="533520"/>
            <a:ext cx="40384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4038480" y="1143000"/>
            <a:ext cx="51055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s force, mass, and accel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 = mass x accel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 m x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s : Newton or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the accelera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nge the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elephant"/>
          <p:cNvPicPr/>
          <p:nvPr/>
        </p:nvPicPr>
        <p:blipFill>
          <a:blip r:embed="rId1"/>
          <a:stretch/>
        </p:blipFill>
        <p:spPr>
          <a:xfrm>
            <a:off x="0" y="990720"/>
            <a:ext cx="5541840" cy="55623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685800" y="228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force will the man need to use if he wants to make the 1 kg elephant move at 5 m/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ton’s 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Newton’s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4800600" y="1295280"/>
            <a:ext cx="40384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4648320" y="1523880"/>
            <a:ext cx="40384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ry action there is equal and opposite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Billiards, bumper c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shotgun"/>
          <p:cNvPicPr/>
          <p:nvPr/>
        </p:nvPicPr>
        <p:blipFill>
          <a:blip r:embed="rId3"/>
          <a:stretch/>
        </p:blipFill>
        <p:spPr>
          <a:xfrm>
            <a:off x="5867280" y="3952800"/>
            <a:ext cx="2268720" cy="244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3 balloon"/>
          <p:cNvPicPr/>
          <p:nvPr/>
        </p:nvPicPr>
        <p:blipFill>
          <a:blip r:embed="rId4"/>
          <a:stretch/>
        </p:blipFill>
        <p:spPr>
          <a:xfrm>
            <a:off x="457200" y="2971800"/>
            <a:ext cx="300672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8T22:40:41Z</dcterms:created>
  <dc:creator>Jean Kavanagh</dc:creator>
  <dc:description/>
  <dc:language>en-US</dc:language>
  <cp:lastModifiedBy>Jean Kavanagh</cp:lastModifiedBy>
  <dcterms:modified xsi:type="dcterms:W3CDTF">2009-11-11T20:59:51Z</dcterms:modified>
  <cp:revision>9</cp:revision>
  <dc:subject/>
  <dc:title>Newton’s Laws of Motion</dc:title>
</cp:coreProperties>
</file>